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5.png" ContentType="image/png"/>
  <Override PartName="/ppt/media/image3.pct" ContentType="image/x-pict"/>
  <Override PartName="/ppt/media/image4.jpeg" ContentType="image/jpeg"/>
  <Override PartName="/ppt/media/image6.jpeg" ContentType="image/jpeg"/>
  <Override PartName="/ppt/media/image8.png" ContentType="image/png"/>
  <Override PartName="/ppt/media/image7.pct" ContentType="image/x-pict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86F-1D37-4EB6-A349-0624D158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2F4-3314-4E83-889A-3B760172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C19-A169-4EEE-8915-1B607C78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4BD-2737-43A5-8285-29CB58A3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0614-660B-41B2-B881-4625C3DB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669-A08A-41BA-9417-701AEE56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331-3738-4B99-B9A7-E927AB2D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9DAA-9935-4CE2-AEBB-53BA0F1E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399B-B1C0-4715-B98E-E2918317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551-5333-4B0B-AAC3-ED70C41A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FC3-5D6F-4D27-B8C5-98231B01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3DF-0F90-402A-8EA9-523DD9C1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D4CD-185A-47CC-816F-D31B3CDB1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ies in Biomedicine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is the “right” amount of seman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A. Mu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718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284120"/>
            <a:ext cx="9144000" cy="5573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ortion of the OBO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imensions for characterizing ont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 vs. 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, FMA vs. SOFG Anatomy Entry 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oad vs. D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, UMLS Semantic Network vs. CY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” vs. He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, Gene Ontology vs. F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ndamental parado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and other ontologies became popular because they assumed a simple semantics that required little of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ck of rich semantics has enabled errors to creep into ontologies such as GO and the meaning of terms and relations to dr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ntology developers are now turning to rich representation formalisms (e.g., OWL) to overcome these problems—but are they shooting themselves in the foot by doing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66680" y="1138320"/>
            <a:ext cx="7315200" cy="5719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O is elegant in its simplicit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543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-1731960" y="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re are clear advantages to having richer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distinguished 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istopher Ch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rofessor and Chair, Department of Medical Informatics, the Mayo Cl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zanna Lew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enior Staff Scientist, Lawrence Berkeley Nationa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rry Sm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rofessor of Philosophy, University at Buff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is the “right” amount of seman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369720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ional Center for Biomedica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ree National Centers for Biomedical Computing launched by NIH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of Stanford, Berkeley, Mayo, Buffalo, Victoria, UCSF, Oregon, and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goal is to make ontologies accessible and u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will develop technologies for ontology indexing, alignment, and pe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1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evelop an Ontolo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tructure of descriptiv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software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people and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ab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omain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“re-inventing the whee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troduce standards to allow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1520" y="1676520"/>
            <a:ext cx="59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upreme genus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UB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880" y="2529000"/>
            <a:ext cx="74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ubordinate genera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ODY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PI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490680" y="2071800"/>
            <a:ext cx="82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Differentiae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ateria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im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469080" y="29098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Differentiae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nimat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inan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531360" y="3672000"/>
            <a:ext cx="82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Differentiae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ensitiv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insen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5840" y="3290760"/>
            <a:ext cx="85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ubordinate genera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IVING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I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4320" y="4129200"/>
            <a:ext cx="72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Proximate genera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NIMA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5600" y="4967280"/>
            <a:ext cx="72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pecies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HUMAN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464760" y="4510080"/>
            <a:ext cx="79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Differentiae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ationa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ir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687960" y="6186600"/>
            <a:ext cx="88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Individuals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crates       Plato      Aristotl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962160" y="1981080"/>
            <a:ext cx="5331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263200" y="196020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6658560" y="234900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134320" y="2806200"/>
            <a:ext cx="474840" cy="25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6658560" y="311112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058360" y="356832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658560" y="394920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5058360" y="440640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6506640" y="4787280"/>
            <a:ext cx="47448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5132520" y="5243040"/>
            <a:ext cx="1632600" cy="103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4828680" y="5243040"/>
            <a:ext cx="969120" cy="99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4545000" y="5247360"/>
            <a:ext cx="155520" cy="101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664800" y="5243760"/>
            <a:ext cx="706320" cy="108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991320" y="2349000"/>
            <a:ext cx="474840" cy="25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915360" y="3187080"/>
            <a:ext cx="474840" cy="25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762720" y="3949200"/>
            <a:ext cx="474840" cy="25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763440" y="4787280"/>
            <a:ext cx="47448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886200" y="281952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886200" y="3581280"/>
            <a:ext cx="5335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809880" y="441972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phyry’s depiction of Aristotle’s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6901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mall Portion of ICD9-C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041480"/>
            <a:ext cx="693432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pecified disorders of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stenosis, other than cerv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stenosis, unspecified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stenosis, thoracic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stenosis, lumbar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0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stenosis,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n in thoracic s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mb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racic or lumbosacral neur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ache, un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orders of sac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orders of coccy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7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pecified disorder of coccy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7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ermobility of coccy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7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ccygody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symptoms referable to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unspecified back dis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undational Model of Anat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1095480"/>
            <a:ext cx="9753840" cy="57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540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>
            <a:off x="-720" y="-76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CI Thesaurus in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43000" y="757080"/>
            <a:ext cx="7315200" cy="57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05:04:01Z</dcterms:created>
  <dc:creator>Mark Musen</dc:creator>
  <dc:description/>
  <dc:language>en-US</dc:language>
  <cp:lastModifiedBy>Mark Musen</cp:lastModifiedBy>
  <dcterms:modified xsi:type="dcterms:W3CDTF">2005-10-26T13:34:09Z</dcterms:modified>
  <cp:revision>50</cp:revision>
  <dc:subject/>
  <dc:title>Ontologies in Biomedicine AMIA Tutorial 25 October 23, 2005</dc:title>
</cp:coreProperties>
</file>